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3C8-2162-4720-9F89-4100078C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168-5A2F-4F8D-966B-6817CC48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28D-D021-466C-8789-34A4D8DC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D3A-9109-455B-AD8F-E1B1EA2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00A-B7B0-4E8A-9C5B-8EF1F3B3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616-7661-4DA8-94DA-EE3DDED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EC4-22C6-4637-853D-68EE433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541-F7B1-4400-8074-58659CC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7DB-72A9-49D5-B010-5C75D34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75F-C4B0-4987-92F7-EC9B7DA8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39B-467B-4A65-B853-FA75EFC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EFC-3F9C-432A-846A-84052BA2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9CCA-62FC-43EF-865E-5C08357D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Sins of Sor Ju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ne by: Micheal Cl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cific, physical environment in the play 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play is very discriminative and it hard be something If you are a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here the play took p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exico 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time the play took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play took place in 1648 to 1651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Season the play tak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time day the play took 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was mid 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ins of sor Jua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time period was very discrimin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r juana live in a time were she could not be herself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conomic conditions during the 1600’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xico was very well off because Spain had stole gold from the Azte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itical condi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church’s were at the top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ligious condi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were cathol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05:46Z</dcterms:created>
  <dc:creator> </dc:creator>
  <dc:description/>
  <dc:language>en-US</dc:language>
  <cp:lastModifiedBy> </cp:lastModifiedBy>
  <dcterms:modified xsi:type="dcterms:W3CDTF">2010-02-05T20:51:31Z</dcterms:modified>
  <cp:revision>9</cp:revision>
  <dc:subject/>
  <dc:title>Sins of Sor Juana </dc:title>
</cp:coreProperties>
</file>